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6.gif" ContentType="image/gif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802E-5D52-446F-9F24-3A49E01AB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C1EA-2D33-4760-8CF6-67499A9A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9D34-3076-4FD0-8CB1-AB8FAAD9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6077-104E-451F-BBF2-43B637AB5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1627-5133-48C4-8DDA-0772DA4E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EE93-F80D-4BC9-A269-2B6CAF91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DDD9-999F-4F85-B326-F2244AF8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B770-D624-4D07-8860-378BCF0E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C042-B05C-48BA-B921-0E33E61A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4816-21C5-4A2F-B4FE-E0A7967A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17D7-A454-4E75-B5F1-BE36084A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9391-12C5-4E24-9B3A-C4EC38A2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404B-3E5F-4014-939E-C0E4DB5AD5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рис34"/>
          <p:cNvPicPr/>
          <p:nvPr/>
        </p:nvPicPr>
        <p:blipFill>
          <a:blip r:embed="rId1"/>
          <a:srcRect l="1166" t="13967" r="25602" b="2876"/>
          <a:stretch/>
        </p:blipFill>
        <p:spPr>
          <a:xfrm>
            <a:off x="0" y="-10008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0" y="549360"/>
            <a:ext cx="867564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Великие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математики прошлого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4572000" y="600084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Автор: Вахнин Александр Валенти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42920" y="692280"/>
            <a:ext cx="397044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c00000"/>
                </a:solidFill>
                <a:uFillTx/>
                <a:latin typeface="Calibri"/>
              </a:rPr>
              <a:t>Дидактические цели проекта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Calibri"/>
              </a:rPr>
              <a:t>Познакомить с историей развития математики и работами великих математик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Сформировать навыки самостоятельной работы, работы в команде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Воспитать организованность, самостоятельность, самоконтроль, ответственност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рис37"/>
          <p:cNvPicPr/>
          <p:nvPr/>
        </p:nvPicPr>
        <p:blipFill>
          <a:blip r:embed="rId1"/>
          <a:srcRect l="4920" t="29742" r="0" b="2689"/>
          <a:stretch/>
        </p:blipFill>
        <p:spPr>
          <a:xfrm>
            <a:off x="395280" y="3213000"/>
            <a:ext cx="4210200" cy="2303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j0172495"/>
          <p:cNvPicPr/>
          <p:nvPr/>
        </p:nvPicPr>
        <p:blipFill>
          <a:blip r:embed="rId2"/>
          <a:stretch/>
        </p:blipFill>
        <p:spPr>
          <a:xfrm>
            <a:off x="324000" y="1125360"/>
            <a:ext cx="4427280" cy="22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642960" y="1857240"/>
            <a:ext cx="7775640" cy="216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то придумал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атематику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5416560" y="4960800"/>
            <a:ext cx="26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BD05629_"/>
          <p:cNvPicPr/>
          <p:nvPr/>
        </p:nvPicPr>
        <p:blipFill>
          <a:blip r:embed="rId1"/>
          <a:stretch/>
        </p:blipFill>
        <p:spPr>
          <a:xfrm>
            <a:off x="3143160" y="4071960"/>
            <a:ext cx="3095640" cy="252252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5" descr=""/>
          <p:cNvPicPr/>
          <p:nvPr/>
        </p:nvPicPr>
        <p:blipFill>
          <a:blip r:embed="rId2"/>
          <a:stretch/>
        </p:blipFill>
        <p:spPr>
          <a:xfrm>
            <a:off x="1243080" y="536400"/>
            <a:ext cx="7005600" cy="10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1187280" y="1798560"/>
            <a:ext cx="7775640" cy="38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1.Великие математики – кто они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2.Что они сделали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416560" y="4960800"/>
            <a:ext cx="26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an6"/>
          <p:cNvPicPr/>
          <p:nvPr/>
        </p:nvPicPr>
        <p:blipFill>
          <a:blip r:embed="rId1"/>
          <a:stretch/>
        </p:blipFill>
        <p:spPr>
          <a:xfrm>
            <a:off x="-285840" y="1643040"/>
            <a:ext cx="2362320" cy="403236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5" descr=""/>
          <p:cNvPicPr/>
          <p:nvPr/>
        </p:nvPicPr>
        <p:blipFill>
          <a:blip r:embed="rId2"/>
          <a:stretch/>
        </p:blipFill>
        <p:spPr>
          <a:xfrm>
            <a:off x="1809720" y="463680"/>
            <a:ext cx="5803920" cy="107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22"/>
          <p:cNvPicPr/>
          <p:nvPr/>
        </p:nvPicPr>
        <p:blipFill>
          <a:blip r:embed="rId1"/>
          <a:stretch/>
        </p:blipFill>
        <p:spPr>
          <a:xfrm flipH="1">
            <a:off x="6643440" y="3714840"/>
            <a:ext cx="2500200" cy="3031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5416560" y="4960800"/>
            <a:ext cx="26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5" descr=""/>
          <p:cNvPicPr/>
          <p:nvPr/>
        </p:nvPicPr>
        <p:blipFill>
          <a:blip r:embed="rId2"/>
          <a:stretch/>
        </p:blipFill>
        <p:spPr>
          <a:xfrm>
            <a:off x="2017800" y="317520"/>
            <a:ext cx="4840200" cy="1073160"/>
          </a:xfrm>
          <a:prstGeom prst="rect">
            <a:avLst/>
          </a:prstGeom>
          <a:ln w="0">
            <a:noFill/>
          </a:ln>
        </p:spPr>
      </p:pic>
      <p:sp>
        <p:nvSpPr>
          <p:cNvPr id="63" name="WordArt 4"/>
          <p:cNvSpPr txBox="1"/>
          <p:nvPr/>
        </p:nvSpPr>
        <p:spPr>
          <a:xfrm>
            <a:off x="139680" y="1484280"/>
            <a:ext cx="7775640" cy="3929040"/>
          </a:xfrm>
          <a:prstGeom prst="rect">
            <a:avLst/>
          </a:prstGeom>
        </p:spPr>
        <p:txBody>
          <a:bodyPr wrap="none" lIns="90000" rIns="90000" tIns="46800" bIns="46800" anchor="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n-lt"/>
              </a:rPr>
              <a:t>1. Для чего нужна теорема Пифагора?</a:t>
            </a:r>
            <a:endParaRPr b="0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n-lt"/>
              </a:rPr>
              <a:t>2. Как найти корни уравнения с помощью теоремы Виета?</a:t>
            </a:r>
            <a:endParaRPr b="0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n-lt"/>
              </a:rPr>
              <a:t>3. Система координат Декарта.</a:t>
            </a:r>
            <a:endParaRPr b="0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n-lt"/>
              </a:rPr>
              <a:t>4. Блестящий ученый-энциклопедист,  прекрасный поэт?</a:t>
            </a:r>
            <a:endParaRPr b="0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+mn-lt"/>
              <a:ea typeface="+mn-lt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9:29:02Z</dcterms:created>
  <dc:creator>SHka</dc:creator>
  <dc:description/>
  <dc:language>en-US</dc:language>
  <cp:lastModifiedBy>26542</cp:lastModifiedBy>
  <dcterms:modified xsi:type="dcterms:W3CDTF">2010-06-04T11:39:33Z</dcterms:modified>
  <cp:revision>15</cp:revision>
  <dc:subject/>
  <dc:title>Слайд 1</dc:title>
</cp:coreProperties>
</file>